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1115-ECCA-463A-8530-96D01EDF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64C9-5D18-4826-8C82-907A41D2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531C-EC7A-4560-B4A0-722D50A37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A83A-7116-4440-93CB-31C109E0B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A667-5BE2-4AC2-A254-02AC16AE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7A6B-3388-4B7C-A565-8D876FBA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5E57-D1BC-48F1-9E06-3939730C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169F-ADEE-418F-99DA-B7ED523B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FFB4-7677-43BD-9DEA-E62D97F4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5C4C-07E2-4D0C-9C1E-2DBCD894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D791-7D47-4AF0-9BCE-25E26659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8C47-F71A-4C04-8D55-452A72E1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0AAB-2441-43D7-8899-7EBDD1E21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7696080" cy="5308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19320" y="5562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990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8660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1371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86600" y="5257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5715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6095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762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TH P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6095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TH P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5029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AME THE CONTINENTS:  Letter your paper A, B, C, D, E, F, G.  Write the name of the continent next to the correct lett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20:53:13Z</dcterms:created>
  <dc:creator>Barbara Weaver</dc:creator>
  <dc:description/>
  <dc:language>en-US</dc:language>
  <cp:lastModifiedBy>Barbara Weaver</cp:lastModifiedBy>
  <dcterms:modified xsi:type="dcterms:W3CDTF">2009-10-10T21:03:17Z</dcterms:modified>
  <cp:revision>1</cp:revision>
  <dc:subject/>
  <dc:title>PowerPoint Presentation</dc:title>
</cp:coreProperties>
</file>